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D9A-58E0-4517-AAF6-57048F24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109-9ABA-460F-AC09-E7BD4BB4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2D0-1F11-49E3-B738-5B9188FB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A51-3FD1-49F5-B0E7-C8287B9E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468-FDE5-4408-BC63-A368F8A0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D91-567B-4F07-B7FF-51CD0F50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7F2-9D43-49B2-9C33-BBB2E72F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177-FEB5-46EB-8DE9-3E20E742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1FA-200F-4363-B80F-7297A280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1C9-F6A3-4CD2-B550-B9F56A82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9B5-5B6D-4610-9E07-58663EC3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229-046E-42E0-8477-0D72FE10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91F5-38F9-4B10-8177-F4759E8F6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:  Short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ic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ur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l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ment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pixel is a single point in a graphic image.  All digital images are compo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ousands or even millions of pixels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"This icon is 32 </a:t>
            </a:r>
            <a:r>
              <a:rPr b="1" lang="en-US" sz="2400" spc="-1" strike="noStrike" u="sng">
                <a:solidFill>
                  <a:srgbClr val="898989"/>
                </a:solidFill>
                <a:uFillTx/>
                <a:latin typeface="Calibri"/>
              </a:rPr>
              <a:t>pixels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 wide by 32 pixels tall. It contains a total of 1024 pixels."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tekmom.com/buzzwords/zdicon.gif"/>
          <p:cNvPicPr/>
          <p:nvPr/>
        </p:nvPicPr>
        <p:blipFill>
          <a:blip r:embed="rId1"/>
          <a:stretch/>
        </p:blipFill>
        <p:spPr>
          <a:xfrm>
            <a:off x="6095880" y="2895480"/>
            <a:ext cx="125748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2"/>
          <a:stretch/>
        </p:blipFill>
        <p:spPr>
          <a:xfrm>
            <a:off x="-6480" y="85680"/>
            <a:ext cx="3060720" cy="12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pixels.jpg (36159 bytes)"/>
          <p:cNvPicPr/>
          <p:nvPr/>
        </p:nvPicPr>
        <p:blipFill>
          <a:blip r:embed="rId3"/>
          <a:stretch/>
        </p:blipFill>
        <p:spPr>
          <a:xfrm>
            <a:off x="380880" y="3429000"/>
            <a:ext cx="3495960" cy="17715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1066680" y="556272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cture of the Alamo in your Texas history movie maker project is blurry so in order to create a clearer sharper  picture, you increase the  number of pixels that are in the pict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8:47:33Z</dcterms:created>
  <dc:creator>RRISD</dc:creator>
  <dc:description/>
  <dc:language>en-US</dc:language>
  <cp:lastModifiedBy>RRISD</cp:lastModifiedBy>
  <dcterms:modified xsi:type="dcterms:W3CDTF">2009-03-12T18:47:56Z</dcterms:modified>
  <cp:revision>1</cp:revision>
  <dc:subject/>
  <dc:title>Definition:  Short for Picture Element, a pixel is a single point in a graphic image.  All digital images are composed of thousands or even millions of pixels. </dc:title>
</cp:coreProperties>
</file>